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84360" y="3062160"/>
            <a:ext cx="3135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114560" y="2608200"/>
            <a:ext cx="7675200" cy="1620720"/>
            <a:chOff x="1114560" y="2608200"/>
            <a:chExt cx="7675200" cy="1620720"/>
          </a:xfrm>
        </p:grpSpPr>
        <p:sp>
          <p:nvSpPr>
            <p:cNvPr id="40" name=""/>
            <p:cNvSpPr/>
            <p:nvPr/>
          </p:nvSpPr>
          <p:spPr>
            <a:xfrm>
              <a:off x="1114560" y="2654640"/>
              <a:ext cx="76557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114560" y="4179600"/>
              <a:ext cx="76557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135440" y="2608200"/>
              <a:ext cx="7654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35440" y="4228920"/>
              <a:ext cx="7654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8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88000" y="1798560"/>
            <a:ext cx="39729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en-US" sz="4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B</a:t>
            </a:r>
            <a:r>
              <a:rPr b="0" lang="en-US" sz="4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4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『</a:t>
            </a:r>
            <a:r>
              <a:rPr b="0" lang="ja-JP" sz="4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メディア最適化</a:t>
            </a:r>
            <a:r>
              <a:rPr b="0" lang="en-US" sz="4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』</a:t>
            </a:r>
            <a:endParaRPr b="0" lang="en-US" sz="4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2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スライドショーでゆっくり見てください。</a:t>
            </a:r>
            <a:r>
              <a:rPr b="0" lang="ja-JP" sz="2800" spc="-1" strike="noStrike">
                <a:solidFill>
                  <a:srgbClr val="080808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450200" y="2259000"/>
            <a:ext cx="2038320" cy="177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2360" y="2695680"/>
            <a:ext cx="81612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32640" y="2259000"/>
            <a:ext cx="1874880" cy="24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4</a:t>
            </a:r>
            <a:r>
              <a:rPr b="1" lang="ja-JP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回目キャンペーン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2949480"/>
            <a:ext cx="816120" cy="0"/>
          </a:xfrm>
          <a:prstGeom prst="line">
            <a:avLst/>
          </a:prstGeom>
          <a:ln w="190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72360" y="3201840"/>
            <a:ext cx="81612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72360" y="3454560"/>
            <a:ext cx="8161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1480" y="256536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ff"/>
                </a:solidFill>
                <a:latin typeface="HGP創英角ｺﾞｼｯｸUB"/>
                <a:ea typeface="HGP創英角ｺﾞｼｯｸUB"/>
              </a:rPr>
              <a:t>媒体</a:t>
            </a:r>
            <a:r>
              <a:rPr b="1" lang="en-US" sz="1000" spc="-1" strike="noStrike">
                <a:solidFill>
                  <a:srgbClr val="3333ff"/>
                </a:solidFill>
                <a:latin typeface="HGP創英角ｺﾞｼｯｸUB"/>
                <a:ea typeface="HGP創英角ｺﾞｼｯｸUB"/>
              </a:rPr>
              <a:t>A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78880" y="256536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1480" y="282744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媒体</a:t>
            </a:r>
            <a:r>
              <a:rPr b="1" lang="en-US" sz="10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C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1480" y="307656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cc0000"/>
                </a:solidFill>
                <a:latin typeface="HGP創英角ｺﾞｼｯｸUB"/>
                <a:ea typeface="HGP創英角ｺﾞｼｯｸUB"/>
              </a:rPr>
              <a:t>媒体</a:t>
            </a:r>
            <a:r>
              <a:rPr b="1" lang="en-US" sz="1000" spc="-1" strike="noStrike">
                <a:solidFill>
                  <a:srgbClr val="cc0000"/>
                </a:solidFill>
                <a:latin typeface="HGP創英角ｺﾞｼｯｸUB"/>
                <a:ea typeface="HGP創英角ｺﾞｼｯｸUB"/>
              </a:rPr>
              <a:t>E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6200" y="334152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G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78880" y="281160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78880" y="305928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78880" y="331956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72360" y="3716280"/>
            <a:ext cx="8161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1800" y="3603600"/>
            <a:ext cx="9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H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78880" y="357984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2800" y="2565360"/>
            <a:ext cx="10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80"/>
                </a:solidFill>
                <a:uFillTx/>
                <a:latin typeface="HGP創英角ｺﾞｼｯｸUB"/>
                <a:ea typeface="HGP創英角ｺﾞｼｯｸUB"/>
              </a:rPr>
              <a:t>○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67360" y="2259000"/>
            <a:ext cx="2036880" cy="177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89520" y="2695680"/>
            <a:ext cx="81144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2259000"/>
            <a:ext cx="1873080" cy="24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3</a:t>
            </a:r>
            <a:r>
              <a:rPr b="1" lang="ja-JP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回目キャンペーン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89520" y="2949480"/>
            <a:ext cx="811440" cy="0"/>
          </a:xfrm>
          <a:prstGeom prst="line">
            <a:avLst/>
          </a:prstGeom>
          <a:ln w="1908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89520" y="3201840"/>
            <a:ext cx="81144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89520" y="3456000"/>
            <a:ext cx="81144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37200" y="256716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ff"/>
                </a:solidFill>
                <a:latin typeface="HGP創英角ｺﾞｼｯｸUB"/>
                <a:ea typeface="HGP創英角ｺﾞｼｯｸUB"/>
              </a:rPr>
              <a:t>媒体</a:t>
            </a:r>
            <a:r>
              <a:rPr b="1" lang="en-US" sz="1000" spc="-1" strike="noStrike">
                <a:solidFill>
                  <a:srgbClr val="3333ff"/>
                </a:solidFill>
                <a:latin typeface="HGP創英角ｺﾞｼｯｸUB"/>
                <a:ea typeface="HGP創英角ｺﾞｼｯｸUB"/>
              </a:rPr>
              <a:t>A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37200" y="28274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媒体</a:t>
            </a:r>
            <a:r>
              <a:rPr b="1" lang="en-US" sz="10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C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13360" y="3078000"/>
            <a:ext cx="86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新媒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E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3360" y="3341520"/>
            <a:ext cx="86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F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92800" y="281160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2800" y="305928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92800" y="331956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HGP創英角ｺﾞｼｯｸUB"/>
                <a:ea typeface="HGP創英角ｺﾞｼｯｸUB"/>
              </a:rPr>
              <a:t>×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86680" y="254952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94120" y="2565360"/>
            <a:ext cx="102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80"/>
                </a:solidFill>
                <a:uFillTx/>
                <a:latin typeface="HGP創英角ｺﾞｼｯｸUB"/>
                <a:ea typeface="HGP創英角ｺﾞｼｯｸUB"/>
              </a:rPr>
              <a:t>○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259000"/>
            <a:ext cx="2038320" cy="177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90840" y="2695680"/>
            <a:ext cx="81144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9680" y="2259000"/>
            <a:ext cx="1873080" cy="24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2</a:t>
            </a:r>
            <a:r>
              <a:rPr b="1" lang="ja-JP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回目のキャンペーン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2949480"/>
            <a:ext cx="81144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3201840"/>
            <a:ext cx="81144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36720" y="2565360"/>
            <a:ext cx="74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3333ff"/>
                </a:solidFill>
                <a:latin typeface="HGP創英角ｺﾞｼｯｸUB"/>
                <a:ea typeface="HGP創英角ｺﾞｼｯｸUB"/>
              </a:rPr>
              <a:t>媒体</a:t>
            </a:r>
            <a:r>
              <a:rPr b="1" lang="en-US" sz="1000" spc="-1" strike="noStrike">
                <a:solidFill>
                  <a:srgbClr val="3333ff"/>
                </a:solidFill>
                <a:latin typeface="HGP創英角ｺﾞｼｯｸUB"/>
                <a:ea typeface="HGP創英角ｺﾞｼｯｸUB"/>
              </a:rPr>
              <a:t>A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12880" y="282744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12880" y="307656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D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94120" y="2811600"/>
            <a:ext cx="10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94120" y="3059280"/>
            <a:ext cx="10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HGP創英角ｺﾞｼｯｸUB"/>
                <a:ea typeface="HGP創英角ｺﾞｼｯｸUB"/>
              </a:rPr>
              <a:t>×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94120" y="254952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95440" y="2565360"/>
            <a:ext cx="102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80"/>
                </a:solidFill>
                <a:uFillTx/>
                <a:latin typeface="HGP創英角ｺﾞｼｯｸUB"/>
                <a:ea typeface="HGP創英角ｺﾞｼｯｸUB"/>
              </a:rPr>
              <a:t>○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200" y="2259000"/>
            <a:ext cx="2038320" cy="177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17720" y="2695680"/>
            <a:ext cx="81108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200" y="2259000"/>
            <a:ext cx="1873440" cy="24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1</a:t>
            </a:r>
            <a:r>
              <a:rPr b="1" lang="ja-JP" sz="1000" spc="-1" strike="noStrike" u="sng">
                <a:solidFill>
                  <a:srgbClr val="ffffff"/>
                </a:solidFill>
                <a:uFillTx/>
                <a:latin typeface="HGS創英角ｺﾞｼｯｸUB"/>
                <a:ea typeface="HGS創英角ｺﾞｼｯｸUB"/>
              </a:rPr>
              <a:t>回目のキャンペーン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7720" y="2949480"/>
            <a:ext cx="81108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8120" y="2567160"/>
            <a:ext cx="98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A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120" y="2827440"/>
            <a:ext cx="98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新媒体</a:t>
            </a:r>
            <a:r>
              <a:rPr b="0" lang="en-US" sz="10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B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95440" y="281160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HGP創英角ｺﾞｼｯｸUB"/>
                <a:ea typeface="HGP創英角ｺﾞｼｯｸUB"/>
              </a:rPr>
              <a:t>×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87520" y="253224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○</a:t>
            </a:r>
            <a:endParaRPr b="0" lang="en-US" sz="1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040120" y="3006000"/>
            <a:ext cx="970200" cy="174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432680" y="3006000"/>
            <a:ext cx="970200" cy="174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809040" y="3006000"/>
            <a:ext cx="970200" cy="1746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9520" y="887760"/>
            <a:ext cx="9528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各媒体メニュー</a:t>
            </a:r>
            <a:r>
              <a:rPr b="0" lang="en-US" sz="1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CPA</a:t>
            </a:r>
            <a:r>
              <a:rPr b="0" lang="ja-JP" sz="1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採算性）を効果測定システムにて把握し、</a:t>
            </a: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HGS創英角ｺﾞｼｯｸUB"/>
                <a:ea typeface="HGS創英角ｺﾞｼｯｸUB"/>
              </a:rPr>
              <a:t>良いものを残し、悪いものを弾く</a:t>
            </a:r>
            <a:r>
              <a:rPr b="0" lang="ja-JP" sz="1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ことで、最強のメディアプランになる！</a:t>
            </a: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6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6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6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6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6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6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6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6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6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6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6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6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6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6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6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6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26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6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6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6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66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76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86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6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16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26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3600"/>
                            </p:stCondLst>
                            <p:childTnLst>
                              <p:par>
                                <p:cTn id="1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4600"/>
                            </p:stCondLst>
                            <p:childTnLst>
                              <p:par>
                                <p:cTn id="2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600"/>
                            </p:stCondLst>
                            <p:childTnLst>
                              <p:par>
                                <p:cTn id="2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66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76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8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9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6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16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26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36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46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6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66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76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keyplanning 松本きっぺい</dc:creator>
  <dc:description/>
  <dc:language>en-US</dc:language>
  <cp:lastModifiedBy>ADK</cp:lastModifiedBy>
  <dcterms:modified xsi:type="dcterms:W3CDTF">2008-03-12T04:24:16Z</dcterms:modified>
  <cp:revision>732</cp:revision>
  <dc:subject/>
  <dc:title>アスカコーポレーション企画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